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815-12DD-45E3-A81A-FB4A6E54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BE9-DA29-4AF9-B05E-F930F21B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777C-9132-425F-B56F-B5C8782E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FDB9-74C3-4CAA-B70C-77BE8A5D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A7A-B7B1-4F48-AC38-69E283FC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63E-2E32-43E3-80B2-8678F036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E438-7837-4F4A-B08E-D4C913DC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9D8-0928-4F7D-BBC0-A4505F46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F5C7-BD1A-4E98-B1FB-41E0F752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5635-332D-46E5-B500-7DCC70D2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96A-3F9E-49D8-ADE6-969D0A6B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DCD-E9E0-4E5A-98A4-2CD22DF3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C4D0-4FDF-4A7E-91A6-9BDAAA9A85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F2479337-20C8-4905-A294-8689C85029F1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СТЕРСТВО НАУКИ И ВЫСШЕГО ОБРАЗОВАНИЯ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Рязанский государственный радиотехнический университет имени В.Ф. Уткин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федра промышленной электро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0" y="155736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выпускной квалификационной работе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выпускной квалификационной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429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йся: студент гр. 723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ров И.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к.т.н., доцен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оров А.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язань, 2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530189BB-6BC1-450E-B1FC-09B056C2941C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 по рабо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A5ADB70A-4B07-4C55-BFCA-388F6EB8CC2F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1116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убликации по работе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0" y="981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робация результатов работы производил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2-х конференци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0" y="371628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работы были опубликованы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-х научных стать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AEC0DB1C-ABAB-4D8C-BF55-3AEAE24BBB51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0" y="335772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ая новизна работы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E9EDC78D-EBA0-488B-BEEA-CBA5493735A7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и задачи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066CE60A-FAC0-4D89-B663-764E53DEDA3F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оретическая часть (кратк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722A5B22-ECFA-43E9-8F7D-AD8D35CA0B2B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четная часть (кратк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99F408F3-0CF4-4551-95EE-5A19C36F409B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8C736D0D-0135-4A5F-9B76-FA2B6C411F6F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15502456-2285-4B3A-87C5-583D894C0B62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2F554901-B12D-4927-809E-C3B9F5D7A01C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6:13:54Z</dcterms:created>
  <dc:creator>Пользователь Windows</dc:creator>
  <dc:description/>
  <dc:language>en-US</dc:language>
  <cp:lastModifiedBy>ASUS</cp:lastModifiedBy>
  <dcterms:modified xsi:type="dcterms:W3CDTF">2019-06-20T03:33:41Z</dcterms:modified>
  <cp:revision>23</cp:revision>
  <dc:subject/>
  <dc:title>МИНИСТЕРСТВО НАУКИ И ВЫСШЕГО ОБРАЗОВАНИЯ  РОССИЙСКОЙ ФЕДЕРАЦИИ Федеральное государственное бюджетное образовательное учреждение  высшего образования  «Рязанский государственный радиотехнический университет имени В.Ф. Уткина» Кафедра промышленной электроники</dc:title>
</cp:coreProperties>
</file>